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5FB-2294-4960-8324-A0EA3ECB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49A-8110-4E17-948F-C9FA59DA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60D-49D5-4457-B9DC-8E2A0A53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BB6-525F-4ECB-AF45-5BEA2E63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423B-EB3F-4EBD-8F7F-4B6CBAB7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C756-716D-46AC-B591-FE605901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4AC6-0C2A-47A2-BCE4-1FCE59B3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369F-32C6-4ADC-B698-3DB667C2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03ED-42CE-4146-B1AD-39444B3B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D10C-847C-4769-A8BF-931E1C9B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7EFE-CE9C-4AFE-AC67-76321D1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5E6-DDF5-49AB-BF00-D3194A46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5B48-4086-4746-859C-DBDA87C5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AA40-DCBF-4AE2-998F-1C3103AB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58CD-31D2-4984-8EBB-6D609EB1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EE80-FD25-4602-AD72-F72364AC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C6BD-47C5-42A7-B387-37B8CC4B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CFF-B350-4B69-8641-CCCEC7D2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176-70AA-4CDA-BE86-8CAC6456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861-6F17-4033-A9B0-BE7FC309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F2B-5885-48D9-AEEB-9E2B162E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D73-5F58-40E8-9D4E-FD4F571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B61-5AE8-4B72-85B5-3AA2DADF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E88-BA6E-4FFF-9C6C-2469495F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266760"/>
                      <a:gd name="textAreaBottom" fmla="*/ 267120 h 266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06920"/>
                      <a:gd name="textAreaBottom" fmla="*/ 107280 h 106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>
                      <a:gd name="textAreaLeft" fmla="*/ 0 w 340200"/>
                      <a:gd name="textAreaRight" fmla="*/ 340560 w 3402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>
                      <a:gd name="textAreaLeft" fmla="*/ 360 w 879120"/>
                      <a:gd name="textAreaRight" fmla="*/ 879840 w 8791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>
                      <a:gd name="textAreaLeft" fmla="*/ -360 w 471960"/>
                      <a:gd name="textAreaRight" fmla="*/ 471960 w 4719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>
                      <a:gd name="textAreaLeft" fmla="*/ 360 w 928800"/>
                      <a:gd name="textAreaRight" fmla="*/ 929520 w 9288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>
                      <a:gd name="textAreaLeft" fmla="*/ -360 w 499320"/>
                      <a:gd name="textAreaRight" fmla="*/ 499320 w 49932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7320"/>
                      <a:gd name="textAreaBottom" fmla="*/ 157680 h 157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840"/>
                      <a:gd name="textAreaBottom" fmla="*/ 169200 h 168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120"/>
                      <a:gd name="textAreaBottom" fmla="*/ 267480 h 267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5520"/>
                      <a:gd name="textAreaBottom" fmla="*/ 245880 h 245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>
                      <a:gd name="textAreaLeft" fmla="*/ -360 w 541080"/>
                      <a:gd name="textAreaRight" fmla="*/ 541080 w 5410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>
                      <a:gd name="textAreaLeft" fmla="*/ 0 w 335880"/>
                      <a:gd name="textAreaRight" fmla="*/ 336240 w 3358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>
                      <a:gd name="textAreaLeft" fmla="*/ 0 w 542520"/>
                      <a:gd name="textAreaRight" fmla="*/ 542880 w 54252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>
                      <a:gd name="textAreaLeft" fmla="*/ -360 w 889560"/>
                      <a:gd name="textAreaRight" fmla="*/ 889560 w 8895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>
                      <a:gd name="textAreaLeft" fmla="*/ -360 w 823320"/>
                      <a:gd name="textAreaRight" fmla="*/ 823320 w 823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>
                      <a:gd name="textAreaLeft" fmla="*/ 360 w 436320"/>
                      <a:gd name="textAreaRight" fmla="*/ 437040 w 4363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>
                      <a:gd name="textAreaLeft" fmla="*/ 0 w 752400"/>
                      <a:gd name="textAreaRight" fmla="*/ 752760 w 75240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>
                      <a:gd name="textAreaLeft" fmla="*/ 0 w 407160"/>
                      <a:gd name="textAreaRight" fmla="*/ 407520 w 40716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>
                      <a:gd name="textAreaLeft" fmla="*/ 0 w 740160"/>
                      <a:gd name="textAreaRight" fmla="*/ 740520 w 74016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>
                      <a:gd name="textAreaLeft" fmla="*/ 0 w 396360"/>
                      <a:gd name="textAreaRight" fmla="*/ 396720 w 39636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6480"/>
                  <a:gd name="textAreaBottom" fmla="*/ 1176840 h 11764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6A1A-8FEC-49BA-BC8D-1ACB52B61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1280"/>
                    <a:ext cx="2560680" cy="2739960"/>
                    <a:chOff x="5760000" y="2321280"/>
                    <a:chExt cx="2560680" cy="27399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9320"/>
                      <a:ext cx="2128680" cy="385560"/>
                    </a:xfrm>
                    <a:custGeom>
                      <a:avLst/>
                      <a:gdLst>
                        <a:gd name="textAreaLeft" fmla="*/ 0 w 2128680"/>
                        <a:gd name="textAreaRight" fmla="*/ 2129040 w 21286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4160"/>
                    <a:ext cx="3039840" cy="2530440"/>
                    <a:chOff x="5787720" y="2144160"/>
                    <a:chExt cx="303984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960"/>
                        <a:gd name="textAreaBottom" fmla="*/ 427320 h 426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7800" cy="1994760"/>
                    <a:chOff x="5774760" y="2061000"/>
                    <a:chExt cx="3097800" cy="19947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3960"/>
                      <a:ext cx="1149120" cy="58716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280"/>
                      <a:ext cx="2067480" cy="41364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3640"/>
                        <a:gd name="textAreaBottom" fmla="*/ 414000 h 413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720"/>
                        <a:gd name="textAreaBottom" fmla="*/ 649080 h 648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040" cy="1004400"/>
                    <a:chOff x="5805720" y="1874880"/>
                    <a:chExt cx="293904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9320"/>
                      <a:ext cx="1023120" cy="60372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89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19760"/>
                        <a:gd name="textAreaBottom" fmla="*/ 420120 h 419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1040"/>
                      <a:ext cx="816480" cy="4143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1040"/>
                    <a:ext cx="2557440" cy="2742480"/>
                    <a:chOff x="2646000" y="2471040"/>
                    <a:chExt cx="255744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600" y="3168720"/>
                      <a:ext cx="2127600" cy="385560"/>
                    </a:xfrm>
                    <a:custGeom>
                      <a:avLst/>
                      <a:gdLst>
                        <a:gd name="textAreaLeft" fmla="*/ 360 w 2127600"/>
                        <a:gd name="textAreaRight" fmla="*/ 212832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000"/>
                      <a:ext cx="1142640" cy="604080"/>
                    </a:xfrm>
                    <a:custGeom>
                      <a:avLst/>
                      <a:gdLst>
                        <a:gd name="textAreaLeft" fmla="*/ 360 w 1142640"/>
                        <a:gd name="textAreaRight" fmla="*/ 1143360 w 11426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4840"/>
                    <a:ext cx="3039840" cy="2532240"/>
                    <a:chOff x="2084040" y="236484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7480"/>
                      <a:ext cx="2234160" cy="42912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9120"/>
                        <a:gd name="textAreaBottom" fmla="*/ 429480 h 429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840"/>
                      <a:ext cx="1199880" cy="67356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3560"/>
                        <a:gd name="textAreaBottom" fmla="*/ 673920 h 673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79160"/>
                    <a:ext cx="3096720" cy="1992600"/>
                    <a:chOff x="2040480" y="2279160"/>
                    <a:chExt cx="309672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680" y="3459240"/>
                      <a:ext cx="1149120" cy="58752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520"/>
                        <a:gd name="textAreaBottom" fmla="*/ 587880 h 587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160" cy="1608840"/>
                    <a:chOff x="2010960" y="218556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4840"/>
                    <a:ext cx="2937240" cy="1002960"/>
                    <a:chOff x="2167560" y="2094840"/>
                    <a:chExt cx="2937240" cy="10029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0840"/>
                      <a:ext cx="1903680" cy="38628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280"/>
                      <a:ext cx="1023120" cy="60228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2280"/>
                        <a:gd name="textAreaBottom" fmla="*/ 602640 h 60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4600"/>
                      <a:ext cx="1730880" cy="27000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8480"/>
                    <a:ext cx="2364120" cy="788760"/>
                    <a:chOff x="2760480" y="1518480"/>
                    <a:chExt cx="236412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704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6560"/>
                    <a:ext cx="2170080" cy="1507320"/>
                    <a:chOff x="3161160" y="826560"/>
                    <a:chExt cx="217008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80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800"/>
                    <a:ext cx="1463400" cy="1892880"/>
                    <a:chOff x="4026960" y="325800"/>
                    <a:chExt cx="1463400" cy="18928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39640"/>
                      <a:ext cx="1359720" cy="265320"/>
                    </a:xfrm>
                    <a:custGeom>
                      <a:avLst/>
                      <a:gdLst>
                        <a:gd name="textAreaLeft" fmla="*/ -360 w 1359720"/>
                        <a:gd name="textAreaRight" fmla="*/ 1359720 w 13597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40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7960"/>
                    <a:chOff x="4447800" y="245520"/>
                    <a:chExt cx="1124280" cy="19479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>
                        <a:gd name="textAreaLeft" fmla="*/ 360 w 703440"/>
                        <a:gd name="textAreaRight" fmla="*/ 704160 w 70344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160"/>
                    <a:ext cx="2318760" cy="1113840"/>
                    <a:chOff x="5661720" y="94716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540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2120" cy="1452600"/>
                    <a:chOff x="5529600" y="61992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>
                      <a:gd name="textAreaLeft" fmla="*/ -360 w 680040"/>
                      <a:gd name="textAreaRight" fmla="*/ 680040 w 68004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7840"/>
                    <a:ext cx="1191600" cy="1898280"/>
                    <a:chOff x="5358240" y="26784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3720"/>
                      <a:ext cx="1309320" cy="22644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680" y="382680"/>
                    <a:ext cx="1889640" cy="1795680"/>
                    <a:chOff x="5350680" y="382680"/>
                    <a:chExt cx="188964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600" y="1381320"/>
                      <a:ext cx="1426320" cy="333000"/>
                    </a:xfrm>
                    <a:custGeom>
                      <a:avLst/>
                      <a:gdLst>
                        <a:gd name="textAreaLeft" fmla="*/ 0 w 1426320"/>
                        <a:gd name="textAreaRight" fmla="*/ 1426680 w 142632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9600"/>
                      <a:ext cx="767520" cy="520200"/>
                    </a:xfrm>
                    <a:custGeom>
                      <a:avLst/>
                      <a:gdLst>
                        <a:gd name="textAreaLeft" fmla="*/ 0 w 767520"/>
                        <a:gd name="textAreaRight" fmla="*/ 767880 w 7675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>
                        <a:gd name="textAreaLeft" fmla="*/ 0 w 1177200"/>
                        <a:gd name="textAreaRight" fmla="*/ 1177560 w 117720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>
                        <a:gd name="textAreaLeft" fmla="*/ 0 w 630360"/>
                        <a:gd name="textAreaRight" fmla="*/ 630720 w 63036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>
                        <a:gd name="textAreaLeft" fmla="*/ -360 w 2130120"/>
                        <a:gd name="textAreaRight" fmla="*/ 2130120 w 21301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>
                        <a:gd name="textAreaLeft" fmla="*/ -360 w 1140120"/>
                        <a:gd name="textAreaRight" fmla="*/ 1140120 w 1140120"/>
                        <a:gd name="textAreaTop" fmla="*/ 0 h 604440"/>
                        <a:gd name="textAreaBottom" fmla="*/ 604800 h 604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>
                        <a:gd name="textAreaLeft" fmla="*/ -360 w 1968120"/>
                        <a:gd name="textAreaRight" fmla="*/ 1968120 w 1968120"/>
                        <a:gd name="textAreaTop" fmla="*/ 0 h 381960"/>
                        <a:gd name="textAreaBottom" fmla="*/ 382320 h 381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>
                        <a:gd name="textAreaLeft" fmla="*/ 360 w 1056240"/>
                        <a:gd name="textAreaRight" fmla="*/ 1056960 w 105624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5320"/>
                    <a:ext cx="876600" cy="2932200"/>
                    <a:chOff x="4507560" y="2695320"/>
                    <a:chExt cx="876600" cy="29322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3000"/>
                      <a:ext cx="1890720" cy="346320"/>
                    </a:xfrm>
                    <a:custGeom>
                      <a:avLst/>
                      <a:gdLst>
                        <a:gd name="textAreaLeft" fmla="*/ 360 w 1890720"/>
                        <a:gd name="textAreaRight" fmla="*/ 1891440 w 18907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680"/>
                    </a:xfrm>
                    <a:custGeom>
                      <a:avLst/>
                      <a:gdLst>
                        <a:gd name="textAreaLeft" fmla="*/ 360 w 1013040"/>
                        <a:gd name="textAreaRight" fmla="*/ 1013760 w 1013040"/>
                        <a:gd name="textAreaTop" fmla="*/ 0 h 544680"/>
                        <a:gd name="textAreaBottom" fmla="*/ 545040 h 54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0400"/>
                    <a:ext cx="2280960" cy="2954160"/>
                    <a:chOff x="5677560" y="2480400"/>
                    <a:chExt cx="2280960" cy="29541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600" cy="38304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4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91640"/>
                    <a:ext cx="1756800" cy="3031200"/>
                    <a:chOff x="564660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custGeom>
                      <a:avLst/>
                      <a:gdLst>
                        <a:gd name="textAreaLeft" fmla="*/ 0 w 2035080"/>
                        <a:gd name="textAreaRight" fmla="*/ 2035440 w 203508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720" cy="57564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6840"/>
                    <a:ext cx="1228680" cy="2990520"/>
                    <a:chOff x="5576400" y="2706840"/>
                    <a:chExt cx="122868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38440"/>
                      <a:ext cx="1973160" cy="303120"/>
                    </a:xfrm>
                    <a:custGeom>
                      <a:avLst/>
                      <a:gdLst>
                        <a:gd name="textAreaLeft" fmla="*/ 0 w 1973160"/>
                        <a:gd name="textAreaRight" fmla="*/ 1973520 w 1973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0880"/>
                      <a:ext cx="1059840" cy="475920"/>
                    </a:xfrm>
                    <a:custGeom>
                      <a:avLst/>
                      <a:gdLst>
                        <a:gd name="textAreaLeft" fmla="*/ 0 w 1059840"/>
                        <a:gd name="textAreaRight" fmla="*/ 1060200 w 105984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>
                        <a:gd name="textAreaLeft" fmla="*/ 0 w 974880"/>
                        <a:gd name="textAreaRight" fmla="*/ 975240 w 97488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600"/>
                    <a:ext cx="664560" cy="2716920"/>
                    <a:chOff x="4963680" y="2883600"/>
                    <a:chExt cx="66456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1920"/>
                      <a:ext cx="1774440" cy="231480"/>
                    </a:xfrm>
                    <a:custGeom>
                      <a:avLst/>
                      <a:gdLst>
                        <a:gd name="textAreaLeft" fmla="*/ 0 w 1774440"/>
                        <a:gd name="textAreaRight" fmla="*/ 1774800 w 177444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160" y="4926240"/>
                      <a:ext cx="951120" cy="36468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4680"/>
                        <a:gd name="textAreaBottom" fmla="*/ 365040 h 36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760"/>
                    <a:ext cx="3166560" cy="252756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-360 h 2527560"/>
                      <a:gd name="textAreaBottom" fmla="*/ 2527560 h 25275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360"/>
                    <a:ext cx="2486880" cy="293580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5800"/>
                      <a:gd name="textAreaBottom" fmla="*/ 2936160 h 293580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880"/>
                    <a:ext cx="1758240" cy="29368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4920"/>
                    <a:ext cx="3133440" cy="293688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880"/>
                    <a:ext cx="515160" cy="188064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80640"/>
                      <a:gd name="textAreaBottom" fmla="*/ 1881000 h 188064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2920"/>
                  <a:gd name="textAreaBottom" fmla="*/ 2843280 h 2842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-360 h 1034280"/>
                  <a:gd name="textAreaBottom" fmla="*/ 1034280 h 1034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6520"/>
                  <a:gd name="textAreaBottom" fmla="*/ 1316880 h 1316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9400"/>
                  <a:gd name="textAreaBottom" fmla="*/ 1769760 h 176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840"/>
                  <a:gd name="textAreaBottom" fmla="*/ 1033200 h 1032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5E6A-535A-473F-9201-AF7F9A9552D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Legislative Branch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Senat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ajority and Minority Lead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job of the Senate Majority and Minority Leaders is the same as their counterparts in the House of Representativ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ajority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Harry Reid (Democrat) from Nevada is the Senate Majority Lea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225px-Harry_Reid_official_portrait_2009.jpg"/>
          <p:cNvPicPr/>
          <p:nvPr/>
        </p:nvPicPr>
        <p:blipFill>
          <a:blip r:embed="rId1"/>
          <a:stretch/>
        </p:blipFill>
        <p:spPr>
          <a:xfrm>
            <a:off x="3505320" y="3657600"/>
            <a:ext cx="198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inority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Mitch McConnell (Republican) from Kentucky is the Senate Minority Lea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4" descr="225px-Sen_Mitch_McConnell_official_cropped.jpg"/>
          <p:cNvPicPr/>
          <p:nvPr/>
        </p:nvPicPr>
        <p:blipFill>
          <a:blip r:embed="rId1"/>
          <a:stretch/>
        </p:blipFill>
        <p:spPr>
          <a:xfrm>
            <a:off x="3809880" y="3733920"/>
            <a:ext cx="15242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y Whi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job of the Senate Majority and Minority Whips is the same as their counterparts in the House of Representativ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ajority Whi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Dick Durbin (Democrat) from Illinois is the Senate Majority Whi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25px-Richard_Durbin_official_photo.jpg"/>
          <p:cNvPicPr/>
          <p:nvPr/>
        </p:nvPicPr>
        <p:blipFill>
          <a:blip r:embed="rId1"/>
          <a:stretch/>
        </p:blipFill>
        <p:spPr>
          <a:xfrm>
            <a:off x="3200400" y="3733920"/>
            <a:ext cx="2209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inority Whi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John Kyl (Republican) from Arizona is the Senate Minority Whi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4" descr="225px-Jon_Kyl,_official_109th_Congress_photo.jpg"/>
          <p:cNvPicPr/>
          <p:nvPr/>
        </p:nvPicPr>
        <p:blipFill>
          <a:blip r:embed="rId1"/>
          <a:stretch/>
        </p:blipFill>
        <p:spPr>
          <a:xfrm>
            <a:off x="3200400" y="3581280"/>
            <a:ext cx="21430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alifications (Senate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t be at least 30 years of 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t be a citizen of the United States for at least 9 yea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t be a resident of the state that he/she repres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ion and Term of Office (Senate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1/3 of the Senate is elected every two year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very Senator serves a six year term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Constitution does not limit the number of terms that a Senator may serv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Represent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ach state has equal representation in the Senate.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re are 100 Senators, so each state has 2 Senator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nnessee’s Senat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mar Alexander (Republican) and Bob Corker (Republican) are the two Senators from Tennesse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5" descr="225px-Lamar_Alexander_official_portrait.jpg"/>
          <p:cNvPicPr/>
          <p:nvPr/>
        </p:nvPicPr>
        <p:blipFill>
          <a:blip r:embed="rId1"/>
          <a:stretch/>
        </p:blipFill>
        <p:spPr>
          <a:xfrm>
            <a:off x="1523880" y="396252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225px-Bobcorker.jpg"/>
          <p:cNvPicPr/>
          <p:nvPr/>
        </p:nvPicPr>
        <p:blipFill>
          <a:blip r:embed="rId2"/>
          <a:stretch/>
        </p:blipFill>
        <p:spPr>
          <a:xfrm>
            <a:off x="4952880" y="38098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Leadershi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nstitution makes the Vice-President of the United States the President of the Sen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ce-President Joe Biden is the President of the Sen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only time that the Vice-President has a vote is in order to break a ti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ce-President Bid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6" descr="joe biden"/>
          <p:cNvPicPr/>
          <p:nvPr/>
        </p:nvPicPr>
        <p:blipFill>
          <a:blip r:embed="rId1"/>
          <a:stretch/>
        </p:blipFill>
        <p:spPr>
          <a:xfrm>
            <a:off x="3819600" y="2295360"/>
            <a:ext cx="15048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resident Pro Tempo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nstitution provides for the position of President Pro Tempor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s is for when the Vice-President is absent from the Sen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raditionally, the majority party in the Senate selects their longest serving member to be the President Pro Tempor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resident Pro Tempore of the Sen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Daniel Inouye (Democrat) from Hawaii is the current President Pro Tempore of the Sen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3" descr="165px-Daniel_Inouye,_official_Senate_photo_portrait,_2008.jpg"/>
          <p:cNvPicPr/>
          <p:nvPr/>
        </p:nvPicPr>
        <p:blipFill>
          <a:blip r:embed="rId1"/>
          <a:stretch/>
        </p:blipFill>
        <p:spPr>
          <a:xfrm>
            <a:off x="3657600" y="411480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8:40:33Z</dcterms:created>
  <dc:creator>Sys Admin</dc:creator>
  <dc:description/>
  <dc:language>en-US</dc:language>
  <cp:lastModifiedBy>SysAdmin</cp:lastModifiedBy>
  <dcterms:modified xsi:type="dcterms:W3CDTF">2011-03-09T18:12:32Z</dcterms:modified>
  <cp:revision>91</cp:revision>
  <dc:subject/>
  <dc:title>Unit 2</dc:title>
</cp:coreProperties>
</file>